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858C4-FA2A-4AE9-A277-A9913A6E25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9DF5B8-680D-426F-A068-6EA902502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17782-2F46-4B01-A275-77AF4859E2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31D12-A926-4CB6-9AF0-B6DC1898A9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970E9-204D-48BD-A185-D1EC948499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57C6F-8DC4-46C5-9866-A8BB095034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5F7CB-E724-438A-99E7-47D4763981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A3876-2E69-4356-A3CF-A2B61ECE8D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AC3BB-C702-48D7-9438-F37C55D14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FA30C-AED7-4BB7-8E2F-ADCFAC9B5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6922E-BE3F-4FA8-A171-663EDEB3F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69E3B-E79C-4766-A9FC-8FDDD02CD2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43460-31CA-43BE-8D4A-BF48DEE53F38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935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Тема лекции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 Назначение, функции, классификация и характеристики систем документальной связи (СДС)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Учебные вопросы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 </a:t>
            </a: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то и задачи дисциплины в сис- теме профессиональной подготовки. Рекомендации по самостоятельной работе. Основные понятия и опреде- ления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2. Принципы построения СДС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2-й вопрос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: Принципы построения СД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 txBox="1"/>
          <p:nvPr/>
        </p:nvSpPr>
        <p:spPr>
          <a:xfrm>
            <a:off x="0" y="1523520"/>
            <a:ext cx="8686800" cy="5334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. История развития телеграфной свя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2. Сети телеграфной свя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3. Метод автоматизированного транзита с отрывом ленты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4. Система прямых соеди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5. Автоматизация телеграфной связ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6. Назначение телеграфной с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7. Состав телеграфной с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8. Построение телеграфной сети (схема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9. Коммутация в телеграфных  сетях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0. Концепция совершенствования телеграфной се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1. Категорирование теле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2. Виды категорий теле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3. Телеграмма вида ШТ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4. Телеграмма вида СВЯЗЬАВАРИ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5. Подача теле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16. Особые виды телеграм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509040" indent="-5090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История развития телеграфной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Широкое применение телеграфной связи началось во второй половине 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XIX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в., когда были изобретены электромагнитные методы передачи сообщений. На основе этих методов были разработаны пишущие телеграфные аппараты Морзе и Уитстона, а позднее буквопечатающие аппараты Юза и Бод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За короткий отрезок времени телеграфная связь усовершенствовалась, она стала более устойчивой и дальнодействующей. Были разработаны способы регенеративной трансляции телеграфных посылок, усовершенствован аппарат Бодо, созданы его шести- и девятикратные модификации, фото- и радиотелеграфная аппарату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Дальнейшее развитие телеграфии привело к созданию специальных средств каналообразования, резко снизивших затраты на линейные сооружения. Были разработаны стартстопные телеграфные аппараты, не требующие больших затрат на эксплуатационно-техническое обслуживание. Появилась возможность создания широко разветвленной телеграфной сети и установки телеграфных аппаратов не только на предприятиях связи, но и в отдельных организациях и ведомствах. Так сформировались современные сети телеграфной связи общего пользования и абонентского телеграф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ети телеграфной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ехническую базу телеграфных сетей составляют телеграфные каналы и стартстопные телеграфные аппараты. Телеграфные каналы образуются путём уплотнения телефонного канала мето- дом частотного или временного разделения. С помощью соот- ветствующей аппаратуры по одному телефонному каналу можно передать одновременно несколько десятков телеграфных сооб- щений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 сети общего пользования применяют как ленточные, так и рулонные стартстопные телеграфные аппараты, на сети абонен- тского телеграфа — рулонные. В восьмидесятые годы прошлого столетия все ленточные телеграфные аппараты были замены рулонны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аличие широкой сети каналов и дешевой оконечной аппарату- ры позволяет достигнуть не только большой разветвлённости телеграфной связи, но и высокой степени её автоматиза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Метод автоматизированного транзита с отрывом лен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конце 60-х годов 20-го века получил широкое рас- пространение полуавтоматический способ обработки телеграмм методом реперфораторного переприёма; в местах переприёма ручная обработка телеграмм сводится к переносу от аппарата приёма к аппарату передачи перфорированной ленты с напунширован-ной (нанесенной в виде отверстий) на ней телеграм- мой. Приём же телеграмм на ленту и дальнейшая пе- редача осуществляются автоматически. Такой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етод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лучил наз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автоматизированного транзита с отрывом ленты (АТОЛ)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н повысил производитель- ность труда телеграфиста в 1,5 раз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Система прямых соединени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Полную автоматизацию процесса обработки телеграмм даёт систе- ма прямых соединений (ПС). Телеграмма обрабатывается не по- этапно, от одного телеграфного пункта к другому, а передаётся не- посредственно из отделения связи, где телеграмма подана, в отде- ление связи, из которого она будет доставлена адресату. Это дости- гается прямым соединением указанных отделений связи через ав -томатические коммутационные станции телеграфной сети. Такой способ автоматизации дает наибольший экономический эффект, поскольку производительность труда телеграфиста по сравнению с полуавтоматическим способом повышается не менее чем в 3 раза. Способ автоматизации по системе прямых соединений начал внед- ряться с конца 60-х годов и в настоящее время является преобла- дающим на сети общего пользования. Дальнейшее развитие теле- графной связи направлено не только на совершенствование про- цессов автоматизации, но и на увеличение разветвлённости сети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втоматизация телеграфной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-360" y="1599840"/>
            <a:ext cx="89154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связи с появлением автоматических систем управления (АСУ), получила развитие </a:t>
            </a:r>
            <a:r>
              <a:rPr b="1" i="1" lang="ru-RU" sz="2400" spc="-1" strike="noStrike">
                <a:solidFill>
                  <a:srgbClr val="000000"/>
                </a:solidFill>
                <a:latin typeface="Arial"/>
              </a:rPr>
              <a:t>орга-связь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,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редставляющая собой комплекс средств связи для передачи данных, т. е. передачи такой информации, которая подлежит обработ- ке электронно-вычислительными машинами ЭВМ. Эта ин- формация включает производственные, бухгалтерские, финансовые и другие данные, которые после обработки ЭВМ используются при управлении производством в це- лом. Для повышения оперативности управления скорость телеграфирования 50 Бод стала недостаточной. Для передачи данных (ПД) используется скорость более 200 Бод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Назначение телеграфной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для передачи телеграфной корреспонденции, поступающей от государственных предприятий, учреждений и частных лиц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для ведения документальных переговоров как внутри страны, так и за рубежом (объединённая сеть АТ/Телекс), а так же осуществления передачи статистических или других данных и различной цифровой информации;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для предоставления телеграфных каналов в аренду организация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73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остав телеграфной сет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уществующая телеграфная сеть страны состоит из сети общего пользования СОП, организуемой между предприятиями Мини- стерства связи РФ, сети абонентского телеграфирования (АТ), организуемой между государственными предприятиями и учреждениями (абонентами), сети арендованных связей и сети факсимильных связей. В телеграфную сеть в последнее время вписалась и всё больше смыкается с ней сеть передачи данных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 СОП передаётся телеграфная корреспонденция от государ-ственных организаций и частных лиц, а по сети АТ ведётся об- мен документальной информацией между государственными ор- ганизациями, имеющими абонентские телеграфные установки (АУ). Связь устанавливается путём организации временных (ком- мутируемых) непосредственных соединений между ни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строение телеграфной се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Телеграфная сеть строится по радиально-узловому принципу  с выделением главных ГУ, областных ОУ и районных РУС узлов связи. Вся телеграфная сеть РФ разделена на зоны. В каждую зону входит ГУ и тяготеющие к нему ОУ и РУС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Главными узлами являются телеграфы Москвы, крупных областных (краевых) центров, служащих пунктами скрещивания потоков телеграфных сообщений; ГУ соединяются между собой по принципу «каждый с каждым», с ОУ своей зоны и в некоторых случаях с ОУ других зон. Главные узлы обеспечивают обработку исходящих сообщений от абонентов и предприятий связи своего узла, входящих к ним сообщений, транзитных от ОУ своей зоны и от других ГУ и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бластные узлы связи — центры областных связей — соединяются пучками телеграфных каналов с ГУ своей зоны, с РУС и узлами связи выделенных городов области, в некоторых случаях с Москвой и при достаточном тяготении — с другими ГУ и ОУ. Областные узлы обеспечивают передачу исходящих сообщений от абонентов и предприятий связи, входящих сообщений и в некоторых случаях транзитных между областными центрами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Центрами районных связей являются РУС, которые включены в ОУ и соединяют свои оконечные пункты ОП с О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конечными пунктами СОП являются городские отделения связи ГОС и районные узлы связи, а оконечными пунктами сети АТ — государственные предприятия и учреждения, в которых находятся абонентские телеграфные установки АУ, включенные в любой из указанных выше узлов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оммутация в телеграфных сет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уществующая телеграфная сеть организуется на базе некоммутируемых (закреплённых) и коммутиру- емых связей. Некоммутируемые связи используют для предоставления их арендаторам и частично на СОП. Сеть АТ и значительная часть СОП базируются на использовании коммутируемых телеграфных свя- зей, которые имеют значительно большие возможно-сти автоматизации обслуживания, экономичности по- строения, гибкости и предоставляемых потребите- лям услуг. Преимущественное развитие получают ав- томатизированные сети коммутируемых телеграф- ных связ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4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ЛИТЕРАТУР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152280" y="1447560"/>
            <a:ext cx="883944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1" lang="ru-RU" sz="27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Телекоммуникационные системы и сети: учеб. пособие для вузов и колледжей: в 3 т., Т.1.: Современные технологии/ Б. И. Крук, В. Н. Попантонопуло, В. П. Шувалов. - М. : Горячая линия - Телеком, 2005. - 647 с. : ил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2. Проект концепции предоставления документальных услуг электросвязи. Министерство Российской Федерации по связи и информатизации 2002г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Arial"/>
              </a:rPr>
              <a:t>3. Основы построения систем и сетей передачи информации: учеб. пособие для вузов/ В. В. Ломовицкий, А. И. Михайлов, К. В. Шестак/ - М. : Горячая линия – Телеком, 2005. - 382 с.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Направления совершенствования телеграфной се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 txBox="1"/>
          <p:nvPr/>
        </p:nvSpPr>
        <p:spPr>
          <a:xfrm>
            <a:off x="0" y="1066320"/>
            <a:ext cx="9144000" cy="5791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Направления совершенствования СДЭС сформулированы в 1995году в документе: «Концепция развития документальной электросвязи» утверждённой постановлением министерством связи РФ от 6 июля 1995 г. № 13-1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Концепция рассчитана на реализацию в несколько этапов. Научные разработки пред- шествующего периода обосновали целесообразность и в дальнейшем строить сети общего пользования и абонентского телеграфа по трехуровневому радиально-узловому принципу. При этом потребуется оптимальный объем коммутационного оборудования, размещаемого в транзитных, областных и районных узлах. Мерой повышения качества является внедрение автоматизированной системы управления телеграфной сетью на основе ЭВМ. Окончательное решение этой задачи достигается путём широкого осна- щения сети электронными станциями коммутации каналов (КК) и коммутации сообщений (КС). В первую очередь вводятся три центра КС — ЦКС со скоростью обработки десять сообщений в секунду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Основное направление совершенствования каналообразующей аппаратуры —это внед- рение единого комплекса для передачи дискретных сообщений в широком диапазоне скоросте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 области совершенствования оконечной телеграфной аппаратуры решается задача создания массового автоматизированного рабочего места оператора на основе ЭВМ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Широкие возможности для совершенствования телеграфной сети открываются благода- ря внедрению аппаратуры автоматического контроля на межстанционных и оконечных участках. Такая аппаратура известна РИТМ, ТАКТ, КАНТ, КОНТУР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39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Категорирование теле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Телеграмма—это документ.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держание каждого документа имеет определенную степень важности. Более важные телеграммы должны обрабатываться быстрее. Для организации рациональной очередности и быстроты передачи телеграфных сообщений в зависимости от их важности телеграммы подразделяются на категории. Причём высшей категорией срочности являются внекатегорийные телеграммы, которые обрабатываются прежде всего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Категории международных телеграмм определяются международным телеграфным регламенто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граммы каждой категории срочности, в свою очередь, в зависимости от содержания имеют отметку категории обработк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Категории телеграм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 категории: 1,   2,   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не очередь: ШТОРМ, АВИА, СВЯЗЬАВИ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сшие: КРИПТ ВПР, ВП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авительств: Крипт ПР, ПР, Прес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рочная: Крипт СР, Метео, Ср. переводная, Ср. переговор, С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быкновенная: Крипт, Переводная, Переговор, Обыкновенна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Телеграммы ШТОР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подачи телеграмм каждой категории предоставляется определённым отправителям. Право подачи внекатегорийных телеграмм, а также и порядок их обработки определяются спе- циальными инструкциям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неочередные телеграммы с отметкой ШТОРМ содержат пре- дупреждение всем видам транспорта о возможных опасных яв- лениях погоды или стихийных бедствиях (ураган, буря, туман, снегопад, землетрясение, наводнение, лесной пожар и т. п.). Такие телеграммы подаются метеорологическими и гидрологи- ческими станциями или другими органами Гидрометеорологи-ческой службы РФ, а именно: Гражданского морского, речного и воздушного флотов, а также летчиками, находящимися в полете, ответственными за противопожарную охрану лесов, местными органами власти и начальниками предприятий министерств свя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716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Телеграммы СВЯЗЬАВАРИЯ и АВИ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0" y="1218960"/>
            <a:ext cx="9144000" cy="5638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сообщениями об авариях на линиях связи, о предостав-лении проводов и каналов для восстановления нарушенной связи, диспетчерские оперативные распоряжения о направ- лении телеграмм в обход поврежденным участкам сети об авариях и крушениях на всех видах транспорта, а также на предприятиях связи, промышленных и транспортных пода- ются телеграммы с отметкой СВЯЗЬАВАРИЯ. Такие теле- граммы подаются министерствами, управлениями и пред- приятиями связи, диспетчерской службой и диспетчерскими узлами Главного телеграфного управления и соответству- ющими министерствами и ведомства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елеграммы с сообщением о вылете, прибытии и вынуж -денных посадках самолетов, а также о погоде подаются с отметкой АВИ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равительственные телеграмм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0" y="1295280"/>
            <a:ext cx="9144000" cy="556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писок должностных лиц, пользующихся правом подписи и пода- чи телеграмм категории ВЫСШАЯ ПРАВИТЕЛЬСТВЕННАЯ, даё- тся в приложении к Инструкции о порядке обработки телеграмм на предприятиях Министерства связи РФ. К этим лицам относят- ся руководители правительственных учреждений федерального значени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о подписи и подачи телеграмм категории ПРАВИТЕЛЬСТ- ВЕННАЯ предоставлено руководителям органов управления субъектов федерации. Список соответствующих должностей также приводится в приложении к вышеупомянутой Инструкци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сшие правительственные телеграммы от отправителей прини- маются на Центральном телеграфе Министерства связи, крае- вых, областных центральных телеграфах, в объединенных и районных узлах связи, а также в городских и сельских отделен-ях связ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обые виды телеграм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0" y="1599840"/>
            <a:ext cx="914400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собые виды телеграмм установлены для удовлетворения различных потребностей отправителей телеграмм. Отправитель может подать телеграмму с оплаченным отве- том, с уведомлением о вручении телеграммы, с доставкой телеграммы адресату нарочным или почтой, с вручением лично адресату или с адресом до востребования, с достав- кой в указанный отправителем срок. Отправителю предо- ставляется возможность при подаче телеграммы указать серию художественного бланка, на котором следует вру- чить телеграмму адресат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нимаются также телеграммы с одним и тем же текстом и подписью для передачи в несколько адресов одного и того же направления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78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 u="sng">
                <a:solidFill>
                  <a:srgbClr val="000000"/>
                </a:solidFill>
                <a:uFillTx/>
                <a:latin typeface="Arial"/>
              </a:rPr>
              <a:t>1-й вопрос</a:t>
            </a: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: Место и задача дисциплины в системе профессиональной подготовки. Рекомендации по самостоятельной работе. Основные понятия и определения, назначение СДЭ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457200" y="2361960"/>
            <a:ext cx="8229600" cy="376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1. Место и задачи дисциплины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2. Основные признаки документа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3. Основные термины и определ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4. Понятие СДЭС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5. Современные проблемы телеграф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6. Современная роль телеграфной связ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249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Место и задачи дисципл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 txBox="1"/>
          <p:nvPr/>
        </p:nvSpPr>
        <p:spPr>
          <a:xfrm>
            <a:off x="228600" y="1752120"/>
            <a:ext cx="86868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Дисциплина СДЭС является продолжени- ем и развитием дисциплин профессиона-льной направленности. В ней предполага- ется более углубленное изучение принци- пов передачи дискретных сообщений с ак- центом на практическое инженерное со-стояние и развитие средств связ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 u="sng">
                <a:solidFill>
                  <a:srgbClr val="000000"/>
                </a:solidFill>
                <a:uFillTx/>
                <a:latin typeface="Arial"/>
              </a:rPr>
              <a:t>Основные признаки документальност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0" y="990720"/>
            <a:ext cx="9144000" cy="586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достовер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сообщений – информация, принятая от отправителя, доставляется ад-ресату целиком и в пределах допустимых нормами  искажений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конфиденциаль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– обеспечение защиты от несанкционированного доступа к сообщению на всех этапах его обработки;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-</a:t>
            </a: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гарантированность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доставки - сообщение гарантированно доставляется адресату в установленные для данного типа сообще-ния контрольные сроки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Основные термины и опред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 txBox="1"/>
          <p:nvPr/>
        </p:nvSpPr>
        <p:spPr>
          <a:xfrm>
            <a:off x="0" y="914400"/>
            <a:ext cx="9144000" cy="59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сообщение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ограниченная по объёму и времени передачи информация, переда- ваемая с помощью средств электросвяз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электронный документ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документ, в котором информация представлена в элек- тронно-цифровой форме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услуга электросвяз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результат деятельности оператора связи, заключающийся в предоставлении возможности передачи информации с помощью технических средств электросвяз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документальная услуга электросвяз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услуга электросвязи, дополняемая приз -наками документальности передаваемой информаци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оператор электросвяз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хозяйствующий субъект, предоставляющий докумен-тальные услуги электросвязи и имеющий выданную уполномоченным органом лицензию на предоставление соответствующих услуг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редоставление документальных услуг электросвязи 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– вид деятельности опера- тора электросвязи, охватывающий комплекс процедур и технологических опера- ций, позволяющих пользователям воспользоваться документальными услугами электросвязи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пользователь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объект, использующий документальные услуги электросвяз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абонен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физическое или юридическое лицо, использующее оконечное техни- ческое средство (терминал) и которому услуги предоставляются на основе дого- ворных отношений с оператором электросвязи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1" lang="ru-RU" sz="1600" spc="-1" strike="noStrike" u="sng">
                <a:solidFill>
                  <a:srgbClr val="000000"/>
                </a:solidFill>
                <a:uFillTx/>
                <a:latin typeface="Arial"/>
              </a:rPr>
              <a:t>клиент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– физическое или юридическое лицо, которому документальные услуги электросвязи предоставляются посредством пунктов коллективного пользо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Понятие СД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0" y="1447560"/>
            <a:ext cx="9144000" cy="467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Под СДС понимают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овокупность архитектурно-тех- нологических методов и аппаратно-программных средств доставки информации территориально удалённым пользователям, позволяющую обеспечить различные виды услуг (обмен телеграммами, оперативными, диалоговыми данными и файлами ЭВМ, речью, телевизионной и факсимильной информацией и т. п.) при обеспечении требований пользователей к своевременности и качеству доставки этой интегральной информаци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Исторически под СДС подразумевается телеграфная связь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000000"/>
                </a:solidFill>
                <a:uFillTx/>
                <a:latin typeface="Arial"/>
              </a:rPr>
              <a:t>Современные проблемы телеграф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0" y="1371600"/>
            <a:ext cx="914400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 течение двух последних десятилетий произошло снижение телеграфного обмена в несколько раз, сократилось количество телеграмм, передаваемых по сети общего пользования, уменьшилось количество абонентов сети АТ/Телекс. Снижение обмена привело к тому, что телеграф стал убыточным, причём, в соответствии с общемировой тенденцией, спрос на услуги телеграфной связи продолжает падать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овременная роль телеграфной связ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0" y="1142640"/>
            <a:ext cx="9144000" cy="571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силу ряда объективных причин телеграфная связь продолжает сохранять свое значение. Присущая этому виду связи надёжность и достоверность передачи информации по-прежнему сохраняют свою важность для органов государственной власти всех уровней, армии, МВД и т.п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Уменьшение спроса на предоставление услуги “телеграмма”, тем не менее, не позволяет отказаться от её предоставления, т.к. для населения малых городов страны и сельской местности телеграф остаётся иногда единственным доступным видом связ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исущее телеграфной связи свойство документальности является важным для предприятий и организаций, нуждающихся в защищённом коммерческом документообороте. Особое значение телеграфная связь имеет на транспорте, где должна быть исключена возможность постороннего доступа и искажения информации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Пользователь Windows</cp:lastModifiedBy>
  <dcterms:modified xsi:type="dcterms:W3CDTF">2022-09-08T19:10:30Z</dcterms:modified>
  <cp:revision>89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